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64EC-36DC-444B-9834-A32967D7F1B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8BB-1D82-45A2-8DDF-0C0EEF55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D38E-0AB1-4BF9-9854-2764EBA4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BF6-F75D-41D0-A252-4A546087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B89-9E2D-4696-9983-051B88C4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6BCB-7636-4491-81F1-6AF4F6A8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2DE7-9856-437A-8E70-6E2FB4BF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AB86-F8D1-4BEE-A38C-0788B618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7F70-913B-490B-99BA-3FF914A5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B8FB-7ECA-4CD2-B4AD-E1025F26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27E2-5B57-4174-B6A5-8FDDFC97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F7C8-6367-40C1-83CE-CAE0BD45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736-FEE7-4593-B7B6-9729853E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96E2-E4C8-43B5-A03C-1448CF03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4BB1-E305-433E-A190-2DBA9FC0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8AC7-1CE5-4D88-949A-0A58F6F3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18F3-13D7-43C2-AECD-06054BFE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62A4-B225-4A36-B961-3C9234ED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A53-4DD2-4583-A752-1392529A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B54-20F1-4D19-8A8A-D8FD0782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371-C841-44A9-9B00-356A858E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2CE-D744-45B8-A80C-D5451397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3B2-AA40-4209-B8D4-E90C033D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E4D-C64B-4E7F-9165-B47CDD7A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E0E-1114-46D7-B994-14BDEEFC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B298-D6E1-4244-B576-9C3B583954D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22C5-C610-429A-A515-4A9E35C51EDE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4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6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4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7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8000"/>
                            </p:stCondLst>
                            <p:childTnLst>
                              <p:par>
                                <p:cTn id="7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8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8500"/>
                            </p:stCondLst>
                            <p:childTnLst>
                              <p:par>
                                <p:cTn id="8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5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9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8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3" dur="5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7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1" dur="5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500"/>
                            </p:stCondLst>
                            <p:childTnLst>
                              <p:par>
                                <p:cTn id="9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3500"/>
                            </p:stCondLst>
                            <p:childTnLst>
                              <p:par>
                                <p:cTn id="9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4000"/>
                            </p:stCondLst>
                            <p:childTnLst>
                              <p:par>
                                <p:cTn id="95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500"/>
                            </p:stCondLst>
                            <p:childTnLst>
                              <p:par>
                                <p:cTn id="9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7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1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5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450"/>
                            </p:stCondLst>
                            <p:childTnLst>
                              <p:par>
                                <p:cTn id="100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250"/>
                            </p:stCondLst>
                            <p:childTnLst>
                              <p:par>
                                <p:cTn id="101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800"/>
                            </p:stCondLst>
                            <p:childTnLst>
                              <p:par>
                                <p:cTn id="1018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300"/>
                            </p:stCondLst>
                            <p:childTnLst>
                              <p:par>
                                <p:cTn id="1026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3850"/>
                            </p:stCondLst>
                            <p:childTnLst>
                              <p:par>
                                <p:cTn id="103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400"/>
                            </p:stCondLst>
                            <p:childTnLst>
                              <p:par>
                                <p:cTn id="1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3900"/>
                            </p:stCondLst>
                            <p:childTnLst>
                              <p:par>
                                <p:cTn id="1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4900"/>
                            </p:stCondLst>
                            <p:childTnLst>
                              <p:par>
                                <p:cTn id="1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69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650"/>
                            </p:stCondLst>
                            <p:childTnLst>
                              <p:par>
                                <p:cTn id="11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850"/>
                            </p:stCondLst>
                            <p:childTnLst>
                              <p:par>
                                <p:cTn id="1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550"/>
                            </p:stCondLst>
                            <p:childTnLst>
                              <p:par>
                                <p:cTn id="1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6050"/>
                            </p:stCondLst>
                            <p:childTnLst>
                              <p:par>
                                <p:cTn id="1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550"/>
                            </p:stCondLst>
                            <p:childTnLst>
                              <p:par>
                                <p:cTn id="1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"/>
                            </p:stCondLst>
                            <p:childTnLst>
                              <p:par>
                                <p:cTn id="1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50"/>
                            </p:stCondLst>
                            <p:childTnLst>
                              <p:par>
                                <p:cTn id="127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550"/>
                            </p:stCondLst>
                            <p:childTnLst>
                              <p:par>
                                <p:cTn id="128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3200"/>
                            </p:stCondLst>
                            <p:childTnLst>
                              <p:par>
                                <p:cTn id="129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3750"/>
                            </p:stCondLst>
                            <p:childTnLst>
                              <p:par>
                                <p:cTn id="130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4250"/>
                            </p:stCondLst>
                            <p:childTnLst>
                              <p:par>
                                <p:cTn id="131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900"/>
                            </p:stCondLst>
                            <p:childTnLst>
                              <p:par>
                                <p:cTn id="1330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450"/>
                            </p:stCondLst>
                            <p:childTnLst>
                              <p:par>
                                <p:cTn id="134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6050"/>
                            </p:stCondLst>
                            <p:childTnLst>
                              <p:par>
                                <p:cTn id="135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700"/>
                            </p:stCondLst>
                            <p:childTnLst>
                              <p:par>
                                <p:cTn id="136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750"/>
                            </p:stCondLst>
                            <p:childTnLst>
                              <p:par>
                                <p:cTn id="138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250"/>
                            </p:stCondLst>
                            <p:childTnLst>
                              <p:par>
                                <p:cTn id="139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70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9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3" dur="5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7" dur="500"/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1" dur="500"/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5" dur="500"/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0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6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4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2" dur="500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6" dur="500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0" dur="500"/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6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0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"/>
                            </p:stCondLst>
                            <p:childTnLst>
                              <p:par>
                                <p:cTn id="15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500"/>
                            </p:stCondLst>
                            <p:childTnLst>
                              <p:par>
                                <p:cTn id="15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3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7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1" dur="500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5" dur="500"/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0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6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0" dur="5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disasi</cp:lastModifiedBy>
  <dcterms:modified xsi:type="dcterms:W3CDTF">2004-08-10T16:35:17Z</dcterms:modified>
  <cp:revision>656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35228822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